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A5E-6A8D-4067-AF21-15F3955D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72E-8871-4B3B-A350-F4E5DC9E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D8C-EE2D-4199-8E90-1C3CC38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CAC-5414-47EA-B688-7EF3EF88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5E80-0A80-47CC-BAE0-B8D81C57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67EE-A916-4258-A725-31501765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BF82-F846-4296-A13F-CAA64E4E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17E5-0C39-4632-95F2-D3CC670B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373-9B1D-4890-8376-8BDECD07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5341-8FF7-4FC3-8074-6457C02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B19E-11AC-468A-AB8B-F6C5F9BD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070-686D-4407-B7B0-FDC0FE6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C2F2-F4EE-4A24-ABD8-8DF09BBB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0FF9-BAC2-49C7-96E5-92D1DDD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5DE7-F803-43FB-83A9-613718CB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3C44-56A3-4E46-AA2D-AC17FAB7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CAEE-6F8F-4B22-8ADE-BB7AD90B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510-B300-426A-A3D2-E87693D2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48D-C563-4440-ACA5-A18692D4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DC1-F321-4A7C-A17F-61FD84D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29E-7ECE-4610-93C6-CF4EC4AB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973-DE20-4FFF-85EB-B1CDAE5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F55-14F7-410D-B54D-E5237B3B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5ED-C2FA-4938-A730-CF3BA9B2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E076-49E6-4B85-BA0F-46399C678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8AD7-4C5B-4236-BFFE-F14A201A9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iki.esipfed.org/index.php/Air_Quality_Cluster" TargetMode="External"/><Relationship Id="rId3" Type="http://schemas.openxmlformats.org/officeDocument/2006/relationships/hyperlink" Target="http://wiki.esipfed.org/index.php/Air_Quality_Cluster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Workshop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8195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ir Quality Cluster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90512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9907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8120" y="30492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.esipfed.org/index.php/Air_Quality_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Serve as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ilitator and advis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Earth scien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formation commun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Promot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Earth scienc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from collection to end-u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mprove usability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rth scienc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and information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pand the u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rth science information – get it to the decision-ma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ducate the 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bout Earth science and science information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65760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191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4040" y="4191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495680"/>
            <a:ext cx="2362320" cy="16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495680"/>
            <a:ext cx="222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Q Cluster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builds </a:t>
            </a: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links</a:t>
            </a: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ng groups in order to achieve an effective use of data in decision-making that could not be achieved by any organization acting on its ow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124080"/>
            <a:ext cx="8915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nect air quality data consumers and data produc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ringing people and ideas together for delivering earth science data to AQ researchers, managers and other users/consum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acilitate and demonstrate information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low from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ata providers to AQ consumer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334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1400" y="5334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56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759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6600" y="64008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120" y="6170760"/>
            <a:ext cx="244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648320"/>
            <a:ext cx="2362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4724280"/>
            <a:ext cx="2438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Verdana"/>
              </a:rPr>
              <a:t>AQ Cluster aids in </a:t>
            </a:r>
            <a:r>
              <a:rPr b="1" i="1" lang="en-US" sz="1300" spc="-1" strike="noStrike" u="sng">
                <a:solidFill>
                  <a:srgbClr val="cc0000"/>
                </a:solidFill>
                <a:uFillTx/>
                <a:latin typeface="Verdana"/>
              </a:rPr>
              <a:t>reuse</a:t>
            </a:r>
            <a:r>
              <a:rPr b="0" lang="en-US" sz="1300" spc="-1" strike="noStrike">
                <a:solidFill>
                  <a:srgbClr val="cc0000"/>
                </a:solidFill>
                <a:latin typeface="Verdana"/>
              </a:rPr>
              <a:t> of data, processing tools and other services </a:t>
            </a:r>
            <a:r>
              <a:rPr b="0" lang="en-US" sz="1300" spc="-1" strike="noStrike">
                <a:solidFill>
                  <a:srgbClr val="800000"/>
                </a:solidFill>
                <a:latin typeface="Verdana"/>
              </a:rPr>
              <a:t>acros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jects, programs and agenci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9400" y="4191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7120" y="5334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2209680" cy="712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581280" y="5715000"/>
            <a:ext cx="2210040" cy="42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Cluster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00960" y="838080"/>
            <a:ext cx="74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d a coordination/collaboration forum for follow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371600"/>
          <a:ext cx="7696080" cy="4495680"/>
        </p:xfrm>
        <a:graphic>
          <a:graphicData uri="http://schemas.openxmlformats.org/drawingml/2006/table">
            <a:tbl>
              <a:tblPr/>
              <a:tblGrid>
                <a:gridCol w="2590920"/>
                <a:gridCol w="5105160"/>
              </a:tblGrid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uster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Q Data Su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 workspace, ESIP pro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SS Architecture Implementation Pi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enario input, wiki workspace, telecon discu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NOX Data Synthesis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op development and coordination, group preparations, wiki, suggestions for standards-based interoperability between OMI providers and AQ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.Cal Smoke Wi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, contributed smoke data/analysis web 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Sp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 on wiki, metadata aggregation, provide content, discussions on design; coordination with educational DataShe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762120" y="601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terac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SF proposal coordination, NASA proposal submissions, data lineage design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20444" r="41245" b="4009"/>
          <a:stretch/>
        </p:blipFill>
        <p:spPr>
          <a:xfrm>
            <a:off x="228600" y="2133720"/>
            <a:ext cx="4572000" cy="34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-Centric Workspac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DataSpace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3633840" cy="195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8098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3962520" y="2819520"/>
            <a:ext cx="1981080" cy="45720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809880"/>
            <a:ext cx="0" cy="129564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cribe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5334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cuss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638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(E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80880"/>
            <a:ext cx="4114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mantic Wiki: Structured (RDF) and Unstructure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, Standard Ma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y for Export/Harvesting  by Registries, Catalogs, Portals, Mashups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4440" y="16002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tadata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6:21:42Z</dcterms:created>
  <dc:creator>sf</dc:creator>
  <dc:description/>
  <dc:language>en-US</dc:language>
  <cp:lastModifiedBy>sf</cp:lastModifiedBy>
  <dcterms:modified xsi:type="dcterms:W3CDTF">2008-02-12T10:49:20Z</dcterms:modified>
  <cp:revision>20</cp:revision>
  <dc:subject/>
  <dc:title>Slide 1</dc:title>
</cp:coreProperties>
</file>